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398-01C7-4123-8F36-D9DE04E8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D00-C6C6-4D7C-8D12-74C4ABB4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532-21A1-40AC-91A9-E11354C7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9C3-8417-4948-B442-871C3FA9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CBC-DC03-4672-80A6-7977A37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A98-BCBE-4132-A03D-B89D94B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87D-065A-443D-862A-86AEA629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FEE-89EF-4C6D-8C5B-3773A13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516-10E3-43EF-958F-B5FAE2A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BC3-EE95-430E-9D48-74BFBEB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EA8-4328-4289-9327-269ECD3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DA2-4798-4DCD-A26A-94E9FEA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FCB-709D-4C4D-970D-77CFC0589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dip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um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o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557360"/>
            <a:ext cx="3292560" cy="46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la adopción y el deseo de sa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úsque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490840" cy="430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voca la incertidumbre sobre la identidad, y la búsqueda obsesiva hacia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ác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u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7720" y="2133720"/>
            <a:ext cx="32227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uent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búsqueda finaliza siendo perjudicado a el mismo, sientiendose así culp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7447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ba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referentes cinemat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erda (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hica terrible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ja de musica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mento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3922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2:01:18Z</dcterms:created>
  <dc:creator>PC</dc:creator>
  <dc:description/>
  <dc:language>en-US</dc:language>
  <cp:lastModifiedBy>PC</cp:lastModifiedBy>
  <dcterms:modified xsi:type="dcterms:W3CDTF">2010-04-17T13:52:20Z</dcterms:modified>
  <cp:revision>4</cp:revision>
  <dc:subject/>
  <dc:title>Diapositiva 1</dc:title>
</cp:coreProperties>
</file>